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34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5.bin" ContentType="application/vnd.openxmlformats-officedocument.oleObject"/>
  <Override PartName="/ppt/embeddings/oleObject31.bin" ContentType="application/vnd.openxmlformats-officedocument.oleObject"/>
  <Override PartName="/ppt/embeddings/oleObject19.bin" ContentType="application/vnd.openxmlformats-officedocument.oleObject"/>
  <Override PartName="/ppt/embeddings/oleObject33.bin" ContentType="application/vnd.openxmlformats-officedocument.oleObject"/>
  <Override PartName="/ppt/embeddings/oleObject6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media/image18.wmf" ContentType="image/x-wmf"/>
  <Override PartName="/ppt/media/image17.wmf" ContentType="image/x-wmf"/>
  <Override PartName="/ppt/media/DRIVEBY.WAV" ContentType="audio/x-wav"/>
  <Override PartName="/ppt/media/image15.wmf" ContentType="image/x-wmf"/>
  <Override PartName="/ppt/media/jetflyby2.wav" ContentType="audio/x-wav"/>
  <Override PartName="/ppt/media/children%20yeah.wav" ContentType="audio/x-wav"/>
  <Override PartName="/ppt/media/image13.wmf" ContentType="image/x-wmf"/>
  <Override PartName="/ppt/media/EXPLODE.WAV" ContentType="audio/x-wav"/>
  <Override PartName="/ppt/media/image12.wmf" ContentType="image/x-wmf"/>
  <Override PartName="/ppt/media/image9.wmf" ContentType="image/x-wmf"/>
  <Override PartName="/ppt/media/image39.wmf" ContentType="image/x-wmf"/>
  <Override PartName="/ppt/media/image8.wmf" ContentType="image/x-wmf"/>
  <Override PartName="/ppt/media/image38.wmf" ContentType="image/x-wmf"/>
  <Override PartName="/ppt/media/caralarmoff.wav" ContentType="audio/x-wav"/>
  <Override PartName="/ppt/media/image7.wmf" ContentType="image/x-wmf"/>
  <Override PartName="/ppt/media/image37.wmf" ContentType="image/x-wmf"/>
  <Override PartName="/ppt/media/image1.wmf" ContentType="image/x-wmf"/>
  <Override PartName="/ppt/media/image31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image14.wmf" ContentType="image/x-wmf"/>
  <Override PartName="/ppt/media/LASER.WAV" ContentType="audio/x-wav"/>
  <Override PartName="/ppt/media/byipee04.wav" ContentType="audio/x-wav"/>
  <Override PartName="/ppt/media/child%20yikes.wav" ContentType="audio/x-wav"/>
  <Override PartName="/ppt/media/image21.wmf" ContentType="image/x-wmf"/>
  <Override PartName="/ppt/media/image23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media/image28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3.wmf" ContentType="image/x-wmf"/>
  <Override PartName="/ppt/media/image44.wmf" ContentType="image/x-wmf"/>
  <Override PartName="/ppt/media/image10.wmf" ContentType="image/x-wmf"/>
  <Override PartName="/ppt/media/image42.wmf" ContentType="image/x-wmf"/>
  <Override PartName="/ppt/media/highchime.wav" ContentType="audio/x-wav"/>
  <Override PartName="/ppt/media/GUNSHOT.WAV" ContentType="audio/x-wav"/>
  <Override PartName="/ppt/media/image45.wmf" ContentType="image/x-wmf"/>
  <Override PartName="/ppt/media/fastcar.wav" ContentType="audio/x-wav"/>
  <Override PartName="/ppt/media/image22.wmf" ContentType="image/x-wmf"/>
  <Override PartName="/ppt/media/image20.wmf" ContentType="image/x-wmf"/>
  <Override PartName="/ppt/media/image19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image5.wmf" ContentType="image/x-wmf"/>
  <Override PartName="/ppt/media/image35.wmf" ContentType="image/x-wmf"/>
  <Override PartName="/ppt/media/hzipup01.wav" ContentType="audio/x-wav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AFC-8E53-4EAD-AB92-85051BEE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D291-E9F5-41D1-AA7D-0FF3B337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560-FE7F-47A4-8848-A577E388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EFB-1BD5-4952-A2F7-07DCE05E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C9D-C8C0-49EB-97BE-FF38A33B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694-B22D-4AA7-A221-A95FCEA5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1B4-38EC-4757-B291-2DCE4CD8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976-7EB4-4B85-97D2-AE425FF3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D73-6E4C-42CE-9BA7-06D06D8E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E61-AA26-4D83-A712-7A68DC6C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DF55-642A-4A16-BDDB-5E0E9EDC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885-3C82-49D9-AF19-EC1BE382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414C-E953-483F-B136-2D5058CBA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audio" Target="../media/WHOOSH.WAV"/><Relationship Id="rId12" Type="http://schemas.openxmlformats.org/officeDocument/2006/relationships/audio" Target="../media/GUNSHOT.WAV"/><Relationship Id="rId13" Type="http://schemas.openxmlformats.org/officeDocument/2006/relationships/audio" Target="../media/WHOOSH.WAV"/><Relationship Id="rId14" Type="http://schemas.openxmlformats.org/officeDocument/2006/relationships/audio" Target="../media/highchime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DRIVEBY.WAV"/><Relationship Id="rId18" Type="http://schemas.openxmlformats.org/officeDocument/2006/relationships/audio" Target="../media/jetflyby2.wav"/><Relationship Id="rId19" Type="http://schemas.openxmlformats.org/officeDocument/2006/relationships/audio" Target="../media/LASER.WAV"/><Relationship Id="rId20" Type="http://schemas.openxmlformats.org/officeDocument/2006/relationships/audio" Target="../media/jetflyby2.wav"/><Relationship Id="rId21" Type="http://schemas.openxmlformats.org/officeDocument/2006/relationships/audio" Target="../media/LASER.WAV"/><Relationship Id="rId22" Type="http://schemas.openxmlformats.org/officeDocument/2006/relationships/audio" Target="../media/jetflyby2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highchime.wav"/><Relationship Id="rId28" Type="http://schemas.openxmlformats.org/officeDocument/2006/relationships/audio" Target="../media/LASER.WAV"/><Relationship Id="rId29" Type="http://schemas.openxmlformats.org/officeDocument/2006/relationships/audio" Target="../media/EXPLODE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audio" Target="../media/LASER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highchime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byipee04.wav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audio" Target="../media/WHOOSH.WAV"/><Relationship Id="rId12" Type="http://schemas.openxmlformats.org/officeDocument/2006/relationships/audio" Target="../media/caralarmoff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fastca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EXPLODE.WAV"/><Relationship Id="rId21" Type="http://schemas.openxmlformats.org/officeDocument/2006/relationships/audio" Target="../media/hzipup01.wav"/><Relationship Id="rId22" Type="http://schemas.openxmlformats.org/officeDocument/2006/relationships/audio" Target="../media/caralarmoff.wav"/><Relationship Id="rId23" Type="http://schemas.openxmlformats.org/officeDocument/2006/relationships/audio" Target="../media/caralarmoff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audio" Target="../media/child%20yikes.wav"/><Relationship Id="rId31" Type="http://schemas.openxmlformats.org/officeDocument/2006/relationships/audio" Target="../media/children%20yeah.wav"/><Relationship Id="rId3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fastca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EXPLODE.WAV"/><Relationship Id="rId21" Type="http://schemas.openxmlformats.org/officeDocument/2006/relationships/audio" Target="../media/hzipup01.wav"/><Relationship Id="rId22" Type="http://schemas.openxmlformats.org/officeDocument/2006/relationships/audio" Target="../media/caralarmoff.wav"/><Relationship Id="rId23" Type="http://schemas.openxmlformats.org/officeDocument/2006/relationships/audio" Target="../media/caralarmoff.wav"/><Relationship Id="rId24" Type="http://schemas.openxmlformats.org/officeDocument/2006/relationships/audio" Target="../media/hzipup01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hzipup01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audio" Target="../media/hzipup01.wav"/><Relationship Id="rId33" Type="http://schemas.openxmlformats.org/officeDocument/2006/relationships/audio" Target="../media/hzipup01.wav"/><Relationship Id="rId34" Type="http://schemas.openxmlformats.org/officeDocument/2006/relationships/audio" Target="../media/child%20yikes.wav"/><Relationship Id="rId35" Type="http://schemas.openxmlformats.org/officeDocument/2006/relationships/audio" Target="../media/children%20yeah.wav"/><Relationship Id="rId3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fastca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EXPLODE.WAV"/><Relationship Id="rId19" Type="http://schemas.openxmlformats.org/officeDocument/2006/relationships/audio" Target="../media/hzipup01.wav"/><Relationship Id="rId20" Type="http://schemas.openxmlformats.org/officeDocument/2006/relationships/audio" Target="../media/caralarmoff.wav"/><Relationship Id="rId21" Type="http://schemas.openxmlformats.org/officeDocument/2006/relationships/audio" Target="../media/caralarmoff.wav"/><Relationship Id="rId22" Type="http://schemas.openxmlformats.org/officeDocument/2006/relationships/audio" Target="../media/hzipup01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hzipup01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audio" Target="../media/child%20yikes.wav"/><Relationship Id="rId33" Type="http://schemas.openxmlformats.org/officeDocument/2006/relationships/audio" Target="../media/children%20yeah.wav"/><Relationship Id="rId3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LASER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highchim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byipee04.wav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highchime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highchime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LASER.WAV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highchim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audio" Target="../media/WHOOSH.WAV"/><Relationship Id="rId20" Type="http://schemas.openxmlformats.org/officeDocument/2006/relationships/audio" Target="../media/LASER.WAV"/><Relationship Id="rId21" Type="http://schemas.openxmlformats.org/officeDocument/2006/relationships/audio" Target="../media/EXPLODE.WAV"/><Relationship Id="rId22" Type="http://schemas.openxmlformats.org/officeDocument/2006/relationships/audio" Target="../media/hzipup01.wav"/><Relationship Id="rId23" Type="http://schemas.openxmlformats.org/officeDocument/2006/relationships/audio" Target="../media/caralarmoff.wav"/><Relationship Id="rId24" Type="http://schemas.openxmlformats.org/officeDocument/2006/relationships/audio" Target="../media/caralarmoff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child%20yikes.wav"/><Relationship Id="rId32" Type="http://schemas.openxmlformats.org/officeDocument/2006/relationships/audio" Target="../media/children%20yeah.wav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audio" Target="../media/LASER.WAV"/><Relationship Id="rId20" Type="http://schemas.openxmlformats.org/officeDocument/2006/relationships/audio" Target="../media/EXPLODE.WAV"/><Relationship Id="rId21" Type="http://schemas.openxmlformats.org/officeDocument/2006/relationships/audio" Target="../media/hzipup01.wav"/><Relationship Id="rId22" Type="http://schemas.openxmlformats.org/officeDocument/2006/relationships/audio" Target="../media/caralarmoff.wav"/><Relationship Id="rId23" Type="http://schemas.openxmlformats.org/officeDocument/2006/relationships/audio" Target="../media/caralarmoff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audio" Target="../media/child%20yikes.wav"/><Relationship Id="rId31" Type="http://schemas.openxmlformats.org/officeDocument/2006/relationships/audio" Target="../media/children%20yeah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audio" Target="../media/LASER.WAV"/><Relationship Id="rId22" Type="http://schemas.openxmlformats.org/officeDocument/2006/relationships/audio" Target="../media/EXPLODE.WAV"/><Relationship Id="rId23" Type="http://schemas.openxmlformats.org/officeDocument/2006/relationships/audio" Target="../media/hzipup01.wav"/><Relationship Id="rId24" Type="http://schemas.openxmlformats.org/officeDocument/2006/relationships/audio" Target="../media/caralarmoff.wav"/><Relationship Id="rId25" Type="http://schemas.openxmlformats.org/officeDocument/2006/relationships/audio" Target="../media/caralarmoff.wav"/><Relationship Id="rId26" Type="http://schemas.openxmlformats.org/officeDocument/2006/relationships/audio" Target="../media/hzipup01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audio" Target="../media/hzipup01.wav"/><Relationship Id="rId33" Type="http://schemas.openxmlformats.org/officeDocument/2006/relationships/audio" Target="../media/hzipup01.wav"/><Relationship Id="rId34" Type="http://schemas.openxmlformats.org/officeDocument/2006/relationships/audio" Target="../media/child%20yikes.wav"/><Relationship Id="rId35" Type="http://schemas.openxmlformats.org/officeDocument/2006/relationships/audio" Target="../media/children%20yeah.wav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audio" Target="../media/WHOOSH.WAV"/><Relationship Id="rId22" Type="http://schemas.openxmlformats.org/officeDocument/2006/relationships/audio" Target="../media/jetflyby2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DRIVEBY.WAV"/><Relationship Id="rId27" Type="http://schemas.openxmlformats.org/officeDocument/2006/relationships/audio" Target="../media/hzipup01.wav"/><Relationship Id="rId28" Type="http://schemas.openxmlformats.org/officeDocument/2006/relationships/audio" Target="../media/caralarmoff.wav"/><Relationship Id="rId29" Type="http://schemas.openxmlformats.org/officeDocument/2006/relationships/audio" Target="../media/caralarmoff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hzipup01.wav"/><Relationship Id="rId35" Type="http://schemas.openxmlformats.org/officeDocument/2006/relationships/audio" Target="../media/hzipup01.wav"/><Relationship Id="rId36" Type="http://schemas.openxmlformats.org/officeDocument/2006/relationships/audio" Target="../media/hzipup01.wav"/><Relationship Id="rId37" Type="http://schemas.openxmlformats.org/officeDocument/2006/relationships/audio" Target="../media/hzipup01.wav"/><Relationship Id="rId38" Type="http://schemas.openxmlformats.org/officeDocument/2006/relationships/audio" Target="../media/child%20yikes.wav"/><Relationship Id="rId39" Type="http://schemas.openxmlformats.org/officeDocument/2006/relationships/audio" Target="../media/children%20yeah.wav"/><Relationship Id="rId4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5.wmf"/><Relationship Id="rId41" Type="http://schemas.openxmlformats.org/officeDocument/2006/relationships/audio" Target="../media/DRIVEBY.WAV"/><Relationship Id="rId42" Type="http://schemas.openxmlformats.org/officeDocument/2006/relationships/audio" Target="../media/hzipup01.wav"/><Relationship Id="rId43" Type="http://schemas.openxmlformats.org/officeDocument/2006/relationships/audio" Target="../media/caralarmoff.wav"/><Relationship Id="rId44" Type="http://schemas.openxmlformats.org/officeDocument/2006/relationships/audio" Target="../media/caralarmoff.wav"/><Relationship Id="rId45" Type="http://schemas.openxmlformats.org/officeDocument/2006/relationships/audio" Target="../media/hzipup01.wav"/><Relationship Id="rId46" Type="http://schemas.openxmlformats.org/officeDocument/2006/relationships/audio" Target="../media/hzipup01.wav"/><Relationship Id="rId47" Type="http://schemas.openxmlformats.org/officeDocument/2006/relationships/audio" Target="../media/LASER.WAV"/><Relationship Id="rId48" Type="http://schemas.openxmlformats.org/officeDocument/2006/relationships/audio" Target="../media/LASER.WAV"/><Relationship Id="rId49" Type="http://schemas.openxmlformats.org/officeDocument/2006/relationships/audio" Target="../media/hzipup01.wav"/><Relationship Id="rId50" Type="http://schemas.openxmlformats.org/officeDocument/2006/relationships/audio" Target="../media/hzipup01.wav"/><Relationship Id="rId51" Type="http://schemas.openxmlformats.org/officeDocument/2006/relationships/audio" Target="../media/hzipup01.wav"/><Relationship Id="rId52" Type="http://schemas.openxmlformats.org/officeDocument/2006/relationships/audio" Target="../media/hzipup01.wav"/><Relationship Id="rId53" Type="http://schemas.openxmlformats.org/officeDocument/2006/relationships/audio" Target="../media/child%20yikes.wav"/><Relationship Id="rId54" Type="http://schemas.openxmlformats.org/officeDocument/2006/relationships/audio" Target="../media/children%20yeah.wav"/><Relationship Id="rId5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5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6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5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6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7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8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9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4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3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5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25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40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4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42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43.wmf"/><Relationship Id="rId69" Type="http://schemas.openxmlformats.org/officeDocument/2006/relationships/audio" Target="../media/DRIVEBY.WAV"/><Relationship Id="rId70" Type="http://schemas.openxmlformats.org/officeDocument/2006/relationships/audio" Target="../media/hzipup01.wav"/><Relationship Id="rId71" Type="http://schemas.openxmlformats.org/officeDocument/2006/relationships/audio" Target="../media/caralarmoff.wav"/><Relationship Id="rId72" Type="http://schemas.openxmlformats.org/officeDocument/2006/relationships/audio" Target="../media/caralarmoff.wav"/><Relationship Id="rId73" Type="http://schemas.openxmlformats.org/officeDocument/2006/relationships/audio" Target="../media/hzipup01.wav"/><Relationship Id="rId74" Type="http://schemas.openxmlformats.org/officeDocument/2006/relationships/audio" Target="../media/hzipup01.wav"/><Relationship Id="rId75" Type="http://schemas.openxmlformats.org/officeDocument/2006/relationships/audio" Target="../media/LASER.WAV"/><Relationship Id="rId76" Type="http://schemas.openxmlformats.org/officeDocument/2006/relationships/audio" Target="../media/LASER.WAV"/><Relationship Id="rId77" Type="http://schemas.openxmlformats.org/officeDocument/2006/relationships/audio" Target="../media/hzipup01.wav"/><Relationship Id="rId78" Type="http://schemas.openxmlformats.org/officeDocument/2006/relationships/audio" Target="../media/hzipup01.wav"/><Relationship Id="rId79" Type="http://schemas.openxmlformats.org/officeDocument/2006/relationships/audio" Target="../media/hzipup01.wav"/><Relationship Id="rId80" Type="http://schemas.openxmlformats.org/officeDocument/2006/relationships/audio" Target="../media/hzipup01.wav"/><Relationship Id="rId81" Type="http://schemas.openxmlformats.org/officeDocument/2006/relationships/audio" Target="../media/child%20yikes.wav"/><Relationship Id="rId82" Type="http://schemas.openxmlformats.org/officeDocument/2006/relationships/audio" Target="../media/children%20yeah.wav"/><Relationship Id="rId83" Type="http://schemas.openxmlformats.org/officeDocument/2006/relationships/audio" Target="../media/hzipup01.wav"/><Relationship Id="rId84" Type="http://schemas.openxmlformats.org/officeDocument/2006/relationships/audio" Target="../media/hzipup01.wav"/><Relationship Id="rId85" Type="http://schemas.openxmlformats.org/officeDocument/2006/relationships/audio" Target="../media/hzipup01.wav"/><Relationship Id="rId86" Type="http://schemas.openxmlformats.org/officeDocument/2006/relationships/audio" Target="../media/children%20yeah.wav"/><Relationship Id="rId8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LASER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highchime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byipee04.wav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audio" Target="../media/LASER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highchime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byipee04.wav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randomly selected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905120" y="5181480"/>
          <a:ext cx="121896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181480"/>
                    <a:ext cx="12189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1066680" y="2209680"/>
            <a:ext cx="3200400" cy="3200400"/>
            <a:chOff x="1066680" y="2209680"/>
            <a:chExt cx="3200400" cy="320040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2438280"/>
              <a:ext cx="2743200" cy="2743200"/>
              <a:chOff x="1295280" y="2438280"/>
              <a:chExt cx="2743200" cy="27432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295280" y="2438280"/>
                <a:ext cx="2743200" cy="2743200"/>
                <a:chOff x="1295280" y="2438280"/>
                <a:chExt cx="2743200" cy="27432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1295280" y="51814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295280" y="48765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295280" y="457164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295280" y="42670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295280" y="39621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295280" y="365724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295280" y="33526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295280" y="30477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295280" y="274284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295280" y="24382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2952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0020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0512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096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1460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81952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1240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2900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3392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0384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066680" y="2209680"/>
              <a:ext cx="3200400" cy="3200400"/>
              <a:chOff x="1066680" y="2209680"/>
              <a:chExt cx="3200400" cy="320040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1599840" y="220968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066680" y="4876560"/>
                <a:ext cx="320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2209680" y="2743200"/>
            <a:ext cx="121932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316240"/>
            <a:ext cx="1249200" cy="515880"/>
            <a:chOff x="2133720" y="2316240"/>
            <a:chExt cx="1249200" cy="515880"/>
          </a:xfrm>
        </p:grpSpPr>
        <p:sp>
          <p:nvSpPr>
            <p:cNvPr id="74" name=""/>
            <p:cNvSpPr/>
            <p:nvPr/>
          </p:nvSpPr>
          <p:spPr>
            <a:xfrm>
              <a:off x="2133720" y="266724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284560" y="2316240"/>
                  <a:ext cx="109836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, 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"/>
          <p:cNvGrpSpPr/>
          <p:nvPr/>
        </p:nvGrpSpPr>
        <p:grpSpPr>
          <a:xfrm>
            <a:off x="3352680" y="4221000"/>
            <a:ext cx="1277640" cy="515880"/>
            <a:chOff x="3352680" y="4221000"/>
            <a:chExt cx="1277640" cy="515880"/>
          </a:xfrm>
        </p:grpSpPr>
        <p:sp>
          <p:nvSpPr>
            <p:cNvPr id="77" name=""/>
            <p:cNvSpPr/>
            <p:nvPr/>
          </p:nvSpPr>
          <p:spPr>
            <a:xfrm>
              <a:off x="3352680" y="449568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476520" y="4221000"/>
                  <a:ext cx="115380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" name=""/>
          <p:cNvGrpSpPr/>
          <p:nvPr/>
        </p:nvGrpSpPr>
        <p:grpSpPr>
          <a:xfrm>
            <a:off x="2209680" y="2743200"/>
            <a:ext cx="1218960" cy="1828800"/>
            <a:chOff x="2209680" y="2743200"/>
            <a:chExt cx="1218960" cy="1828800"/>
          </a:xfrm>
        </p:grpSpPr>
        <p:sp>
          <p:nvSpPr>
            <p:cNvPr id="80" name=""/>
            <p:cNvSpPr/>
            <p:nvPr/>
          </p:nvSpPr>
          <p:spPr>
            <a:xfrm>
              <a:off x="2209680" y="4572000"/>
              <a:ext cx="1218960" cy="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2743200"/>
              <a:ext cx="0" cy="182880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5334120" y="2286000"/>
          <a:ext cx="257472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286000"/>
                    <a:ext cx="25747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02160" y="3387600"/>
                <a:ext cx="16398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85" name=""/>
          <p:cNvGraphicFramePr/>
          <p:nvPr/>
        </p:nvGraphicFramePr>
        <p:xfrm>
          <a:off x="0" y="3352680"/>
          <a:ext cx="125424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352680"/>
                    <a:ext cx="12542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87" name=""/>
          <p:cNvCxnSpPr/>
          <p:nvPr/>
        </p:nvCxnSpPr>
        <p:spPr>
          <a:xfrm rot="5400000">
            <a:off x="2299320" y="4786200"/>
            <a:ext cx="658080" cy="229320"/>
          </a:xfrm>
          <a:prstGeom prst="curvedConnector5">
            <a:avLst>
              <a:gd name="adj1" fmla="val 47783"/>
              <a:gd name="adj2" fmla="val 50000"/>
              <a:gd name="adj3" fmla="val 4778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 rot="5400000">
            <a:off x="1576440" y="3147480"/>
            <a:ext cx="240480" cy="956160"/>
          </a:xfrm>
          <a:prstGeom prst="curvedConnector5">
            <a:avLst>
              <a:gd name="adj1" fmla="val -83358"/>
              <a:gd name="adj2" fmla="val 24971"/>
              <a:gd name="adj3" fmla="val -83358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06440" y="583560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067440" y="3387600"/>
                <a:ext cx="1995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91" name=""/>
          <p:cNvGraphicFramePr/>
          <p:nvPr/>
        </p:nvGraphicFramePr>
        <p:xfrm>
          <a:off x="7947000" y="3429000"/>
          <a:ext cx="1033560" cy="53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47000" y="3429000"/>
                    <a:ext cx="10335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" name=""/>
          <p:cNvGrpSpPr/>
          <p:nvPr/>
        </p:nvGrpSpPr>
        <p:grpSpPr>
          <a:xfrm>
            <a:off x="4179960" y="3124080"/>
            <a:ext cx="4964040" cy="1100160"/>
            <a:chOff x="4179960" y="3124080"/>
            <a:chExt cx="4964040" cy="1100160"/>
          </a:xfrm>
        </p:grpSpPr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4179960" y="3200400"/>
                  <a:ext cx="392436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                  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95" name=""/>
            <p:cNvGraphicFramePr/>
            <p:nvPr/>
          </p:nvGraphicFramePr>
          <p:xfrm>
            <a:off x="8217000" y="3124080"/>
            <a:ext cx="927000" cy="102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217000" y="3124080"/>
                      <a:ext cx="927000" cy="10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302000" y="4437000"/>
                <a:ext cx="45975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54200" y="4417920"/>
                <a:ext cx="248580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758880" y="2852640"/>
                <a:ext cx="379728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dpoint between the two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176480" y="3025800"/>
          <a:ext cx="3873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6480" y="30258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1282680" y="4564080"/>
          <a:ext cx="38736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2680" y="456408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0" y="16765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dpoint is like finding the aver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995480" y="3017880"/>
          <a:ext cx="38592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5480" y="3017880"/>
                    <a:ext cx="385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911320" y="3025800"/>
          <a:ext cx="38592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1320" y="3025800"/>
                    <a:ext cx="385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3755880" y="3003480"/>
          <a:ext cx="43200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55880" y="3003480"/>
                    <a:ext cx="4320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2311560" y="4549680"/>
          <a:ext cx="431640" cy="51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11560" y="4549680"/>
                    <a:ext cx="431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44480" y="2176560"/>
                <a:ext cx="30513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113440" y="2322360"/>
                <a:ext cx="379728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3548160" y="4668840"/>
                <a:ext cx="19476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6318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distance between each pair of poin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61920" y="1238400"/>
            <a:ext cx="3976560" cy="2901600"/>
            <a:chOff x="961920" y="1238400"/>
            <a:chExt cx="3976560" cy="2901600"/>
          </a:xfrm>
        </p:grpSpPr>
        <p:sp>
          <p:nvSpPr>
            <p:cNvPr id="509" name=""/>
            <p:cNvSpPr/>
            <p:nvPr/>
          </p:nvSpPr>
          <p:spPr>
            <a:xfrm>
              <a:off x="96192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230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848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624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0768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6948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3092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9236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538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1560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7704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61920" y="1238400"/>
              <a:ext cx="397656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61920" y="1963440"/>
              <a:ext cx="3976560" cy="36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61920" y="2688840"/>
              <a:ext cx="3976560" cy="36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61920" y="3414600"/>
              <a:ext cx="397656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409840" y="1087560"/>
            <a:ext cx="0" cy="3193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26920" y="3048120"/>
            <a:ext cx="426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9280" y="1190520"/>
            <a:ext cx="6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409840" y="1596600"/>
            <a:ext cx="1073160" cy="143676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0" y="506412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09600" y="5857920"/>
                <a:ext cx="432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530" name=""/>
          <p:cNvGraphicFramePr/>
          <p:nvPr/>
        </p:nvGraphicFramePr>
        <p:xfrm>
          <a:off x="4622760" y="6058080"/>
          <a:ext cx="265284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2760" y="6058080"/>
                    <a:ext cx="26528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6215040" y="5173560"/>
          <a:ext cx="160488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5040" y="5173560"/>
                    <a:ext cx="16048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7815240" y="5249880"/>
          <a:ext cx="1066680" cy="7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15240" y="5249880"/>
                    <a:ext cx="10666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600200" y="5326200"/>
                <a:ext cx="1085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886200" y="5326200"/>
                <a:ext cx="1133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5187960" y="1276200"/>
                <a:ext cx="14400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1865160" y="6137280"/>
                <a:ext cx="3891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541680" y="6157800"/>
                <a:ext cx="433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41" name=""/>
          <p:cNvGraphicFramePr/>
          <p:nvPr/>
        </p:nvGraphicFramePr>
        <p:xfrm>
          <a:off x="5605560" y="6248520"/>
          <a:ext cx="466560" cy="56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05560" y="6248520"/>
                    <a:ext cx="4665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6443640" y="6248520"/>
          <a:ext cx="70812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43640" y="6248520"/>
                    <a:ext cx="7081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76040" y="418932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537240" y="1239840"/>
                <a:ext cx="1309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700"/>
                            </p:stCondLst>
                            <p:childTnLst>
                              <p:par>
                                <p:cTn id="803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8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6318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distance between each pair of poin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961920" y="1238400"/>
            <a:ext cx="3976560" cy="2901600"/>
            <a:chOff x="961920" y="1238400"/>
            <a:chExt cx="3976560" cy="2901600"/>
          </a:xfrm>
        </p:grpSpPr>
        <p:sp>
          <p:nvSpPr>
            <p:cNvPr id="550" name=""/>
            <p:cNvSpPr/>
            <p:nvPr/>
          </p:nvSpPr>
          <p:spPr>
            <a:xfrm>
              <a:off x="96192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230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6848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4624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0768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6948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3092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9236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538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1560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7704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61920" y="1238400"/>
              <a:ext cx="397656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61920" y="1963440"/>
              <a:ext cx="3976560" cy="36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61920" y="2688840"/>
              <a:ext cx="3976560" cy="36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61920" y="3414600"/>
              <a:ext cx="397656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778120" y="1087560"/>
            <a:ext cx="0" cy="3193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65080" y="2692440"/>
            <a:ext cx="426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9280" y="1190520"/>
            <a:ext cx="6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673280" y="1965240"/>
            <a:ext cx="2901960" cy="14623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0" y="5051520"/>
                <a:ext cx="61531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309600" y="5857920"/>
                <a:ext cx="432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571" name=""/>
          <p:cNvGraphicFramePr/>
          <p:nvPr/>
        </p:nvGraphicFramePr>
        <p:xfrm>
          <a:off x="4621320" y="6058080"/>
          <a:ext cx="265248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1320" y="6058080"/>
                    <a:ext cx="26524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6039000" y="5151600"/>
                <a:ext cx="18396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7721640" y="5162400"/>
                <a:ext cx="1422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1366920" y="5262480"/>
                <a:ext cx="17809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930480" y="5275440"/>
                <a:ext cx="18320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097600" y="1289160"/>
                <a:ext cx="21812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1865160" y="6137280"/>
                <a:ext cx="3891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541680" y="6157800"/>
                <a:ext cx="433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407200" y="6186600"/>
                <a:ext cx="745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1" name=""/>
          <p:cNvGraphicFramePr/>
          <p:nvPr/>
        </p:nvGraphicFramePr>
        <p:xfrm>
          <a:off x="6429240" y="6207120"/>
          <a:ext cx="70812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240" y="6207120"/>
                    <a:ext cx="7081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76040" y="418932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7095960" y="1265400"/>
                <a:ext cx="130968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85" name=""/>
          <p:cNvGraphicFramePr/>
          <p:nvPr/>
        </p:nvGraphicFramePr>
        <p:xfrm>
          <a:off x="1650960" y="5348160"/>
          <a:ext cx="555840" cy="5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50960" y="5348160"/>
                    <a:ext cx="55584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2184480" y="5348160"/>
          <a:ext cx="555480" cy="55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84480" y="5348160"/>
                    <a:ext cx="5554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4255920" y="5370480"/>
          <a:ext cx="55584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55920" y="5370480"/>
                    <a:ext cx="55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4789440" y="5370480"/>
          <a:ext cx="555840" cy="5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89440" y="5370480"/>
                    <a:ext cx="55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6318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distance between each pair of poin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961920" y="1238400"/>
            <a:ext cx="3976560" cy="2901600"/>
            <a:chOff x="961920" y="1238400"/>
            <a:chExt cx="3976560" cy="2901600"/>
          </a:xfrm>
        </p:grpSpPr>
        <p:sp>
          <p:nvSpPr>
            <p:cNvPr id="596" name=""/>
            <p:cNvSpPr/>
            <p:nvPr/>
          </p:nvSpPr>
          <p:spPr>
            <a:xfrm>
              <a:off x="96192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230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848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4624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40768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6948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3092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9236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5380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5600" y="1238400"/>
              <a:ext cx="36108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77040" y="1238400"/>
              <a:ext cx="361440" cy="290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61920" y="1238400"/>
              <a:ext cx="397656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61920" y="1963440"/>
              <a:ext cx="3976560" cy="36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61920" y="2688840"/>
              <a:ext cx="3976560" cy="36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61920" y="3414600"/>
              <a:ext cx="3976560" cy="3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226040" y="1100160"/>
            <a:ext cx="0" cy="3193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14320" y="3048120"/>
            <a:ext cx="426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9280" y="1190520"/>
            <a:ext cx="6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685880" y="1622520"/>
            <a:ext cx="1784520" cy="17920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0" y="5051520"/>
                <a:ext cx="65451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309600" y="5857920"/>
                <a:ext cx="432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617" name=""/>
          <p:cNvGraphicFramePr/>
          <p:nvPr/>
        </p:nvGraphicFramePr>
        <p:xfrm>
          <a:off x="4608360" y="6058080"/>
          <a:ext cx="265284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6058080"/>
                    <a:ext cx="26528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7299360" y="6012000"/>
                <a:ext cx="16048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7162920" y="5124600"/>
                <a:ext cx="1600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1352520" y="5262480"/>
                <a:ext cx="22161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4443480" y="5288040"/>
                <a:ext cx="1744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119560" y="1289160"/>
                <a:ext cx="21369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865160" y="6137280"/>
                <a:ext cx="3891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562200" y="6135840"/>
                <a:ext cx="3906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407200" y="6186600"/>
                <a:ext cx="745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6405480" y="6161040"/>
                <a:ext cx="755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176040" y="418932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7078680" y="1239840"/>
                <a:ext cx="17017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30" name=""/>
          <p:cNvGraphicFramePr/>
          <p:nvPr/>
        </p:nvGraphicFramePr>
        <p:xfrm>
          <a:off x="2031840" y="5348160"/>
          <a:ext cx="555840" cy="5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1840" y="5348160"/>
                    <a:ext cx="55584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2565360" y="5348160"/>
          <a:ext cx="555840" cy="5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65360" y="5348160"/>
                    <a:ext cx="55584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4751280" y="5357880"/>
          <a:ext cx="55584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51280" y="5357880"/>
                    <a:ext cx="55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5284800" y="5357880"/>
          <a:ext cx="55548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84800" y="5357880"/>
                    <a:ext cx="555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669960" y="3533760"/>
                <a:ext cx="24861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6318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Find the midpoint of each segment with the given endpoi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1920" y="1141560"/>
                <a:ext cx="46242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,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73120" y="1996920"/>
                <a:ext cx="379728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072040" y="1698480"/>
                <a:ext cx="379728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974880" y="2117880"/>
                <a:ext cx="428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77840" y="3679920"/>
                <a:ext cx="603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751040" y="2084400"/>
                <a:ext cx="603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695680" y="2092320"/>
                <a:ext cx="431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514680" y="2084400"/>
                <a:ext cx="4302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2244600" y="3679920"/>
                <a:ext cx="430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3390840" y="3808440"/>
                <a:ext cx="1922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5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7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69960" y="3533760"/>
                <a:ext cx="24861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6318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Find the midpoint of each segment with the given endpoi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72880" y="1154160"/>
                <a:ext cx="51469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 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54040" y="1996920"/>
                <a:ext cx="419112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132520" y="1765440"/>
                <a:ext cx="37972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974880" y="2097000"/>
                <a:ext cx="428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1163520" y="3657600"/>
                <a:ext cx="4302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901880" y="2104920"/>
                <a:ext cx="301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2408400" y="2082960"/>
                <a:ext cx="77760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08480" y="2031840"/>
                <a:ext cx="10760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1901880" y="3657600"/>
                <a:ext cx="990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138480" y="3354480"/>
                <a:ext cx="290988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669960" y="3533760"/>
                <a:ext cx="24861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6318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Find the midpoint of each segment with the given endpoi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120600" y="1154160"/>
                <a:ext cx="5453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, </m:t>
                        </m:r>
                        <m: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423720" y="1996920"/>
                <a:ext cx="445320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5132520" y="1765440"/>
                <a:ext cx="37972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040" y="2081160"/>
                <a:ext cx="771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833400" y="3678120"/>
                <a:ext cx="988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692360" y="2019240"/>
                <a:ext cx="10764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147840" y="2082960"/>
                <a:ext cx="38916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924360" y="2097000"/>
                <a:ext cx="603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158920" y="3670200"/>
                <a:ext cx="603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092400" y="3341520"/>
                <a:ext cx="313056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1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631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7.  When you use the distance formula, does it matter which point you use a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951280" y="1014480"/>
                <a:ext cx="1493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878040" y="1673280"/>
                <a:ext cx="1616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427120" y="1636560"/>
                <a:ext cx="1671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111560" y="1782720"/>
                <a:ext cx="107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4432320" y="1038240"/>
            <a:ext cx="146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xplai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870120" y="2536920"/>
                <a:ext cx="16160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2611440" y="2500200"/>
                <a:ext cx="1285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103640" y="2646360"/>
                <a:ext cx="107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7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2480"/>
                            </p:stCondLst>
                            <p:childTnLst>
                              <p:par>
                                <p:cTn id="1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2980"/>
                            </p:stCondLst>
                            <p:childTnLst>
                              <p:par>
                                <p:cTn id="13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5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6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7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75  11 – 3 #1 – 7, 8 – 2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points using the distance formu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388620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04960" y="4935600"/>
                <a:ext cx="432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4884840" y="4991040"/>
          <a:ext cx="265248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4840" y="4991040"/>
                    <a:ext cx="26524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295280" y="6058080"/>
          <a:ext cx="160524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6058080"/>
                    <a:ext cx="16052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895480" y="6134040"/>
          <a:ext cx="1067040" cy="7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6134040"/>
                    <a:ext cx="10670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362320" y="4191120"/>
          <a:ext cx="139068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191120"/>
                    <a:ext cx="13906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00600" y="4191120"/>
          <a:ext cx="113364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4191120"/>
                    <a:ext cx="11336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73280" y="2232000"/>
                <a:ext cx="3360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14" name=""/>
          <p:cNvGraphicFramePr/>
          <p:nvPr/>
        </p:nvGraphicFramePr>
        <p:xfrm>
          <a:off x="2209680" y="5257800"/>
          <a:ext cx="692280" cy="51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09680" y="5257800"/>
                    <a:ext cx="692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886200" y="5257800"/>
          <a:ext cx="736560" cy="517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5257800"/>
                    <a:ext cx="7365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867280" y="5181480"/>
          <a:ext cx="466920" cy="56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7280" y="5181480"/>
                    <a:ext cx="4669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705720" y="5181480"/>
          <a:ext cx="707760" cy="563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05720" y="5181480"/>
                    <a:ext cx="7077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90720" y="289548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points using the distance formu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83040" y="4991040"/>
          <a:ext cx="265284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3040" y="4991040"/>
                    <a:ext cx="26528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436760" y="6058080"/>
          <a:ext cx="132084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6760" y="6058080"/>
                    <a:ext cx="13208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631960" y="6134040"/>
          <a:ext cx="1594080" cy="7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1960" y="6134040"/>
                    <a:ext cx="15940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46280" y="4152960"/>
          <a:ext cx="117324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46280" y="4152960"/>
                    <a:ext cx="11732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900680" y="4152960"/>
          <a:ext cx="108432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00680" y="4152960"/>
                    <a:ext cx="1084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63480" y="2232000"/>
                <a:ext cx="30067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2362320" y="5257800"/>
          <a:ext cx="431640" cy="51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5257800"/>
                    <a:ext cx="431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962520" y="5257800"/>
          <a:ext cx="431640" cy="517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2520" y="5257800"/>
                    <a:ext cx="431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867280" y="5181480"/>
          <a:ext cx="468360" cy="56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7280" y="5181480"/>
                    <a:ext cx="468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705720" y="5181480"/>
          <a:ext cx="468360" cy="563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05720" y="5181480"/>
                    <a:ext cx="468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914400" y="388620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04960" y="4935600"/>
                <a:ext cx="432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990720" y="289548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990720" y="380988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points using the distance formu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883040" y="4991040"/>
          <a:ext cx="265284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3040" y="4991040"/>
                    <a:ext cx="26528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271520" y="6058080"/>
          <a:ext cx="165276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1520" y="6058080"/>
                    <a:ext cx="16527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819520" y="6153120"/>
          <a:ext cx="1593720" cy="7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6153120"/>
                    <a:ext cx="15937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286000" y="4038480"/>
                <a:ext cx="17413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8" name=""/>
          <p:cNvGraphicFramePr/>
          <p:nvPr/>
        </p:nvGraphicFramePr>
        <p:xfrm>
          <a:off x="4952880" y="4114800"/>
          <a:ext cx="117180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114800"/>
                    <a:ext cx="11718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382840" y="5257800"/>
          <a:ext cx="388800" cy="51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82840" y="5257800"/>
                    <a:ext cx="3888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962520" y="5257800"/>
          <a:ext cx="431640" cy="51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62520" y="5257800"/>
                    <a:ext cx="431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715000" y="5181480"/>
          <a:ext cx="711360" cy="563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5000" y="5181480"/>
                    <a:ext cx="711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705720" y="5181480"/>
          <a:ext cx="468360" cy="56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5181480"/>
                    <a:ext cx="468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514600" y="4114800"/>
          <a:ext cx="555480" cy="555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14600" y="4114800"/>
                    <a:ext cx="555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048120" y="4114800"/>
          <a:ext cx="555480" cy="555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48120" y="4114800"/>
                    <a:ext cx="555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33520" y="2133720"/>
                <a:ext cx="33559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04960" y="4935600"/>
                <a:ext cx="432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90720" y="2895480"/>
                <a:ext cx="5629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. Find the perimeter of the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95280" y="2225520"/>
            <a:ext cx="987480" cy="519120"/>
            <a:chOff x="1295280" y="2225520"/>
            <a:chExt cx="987480" cy="519120"/>
          </a:xfrm>
        </p:grpSpPr>
        <p:sp>
          <p:nvSpPr>
            <p:cNvPr id="179" name=""/>
            <p:cNvSpPr/>
            <p:nvPr/>
          </p:nvSpPr>
          <p:spPr>
            <a:xfrm>
              <a:off x="1295280" y="2590920"/>
              <a:ext cx="15264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1433520" y="2225520"/>
                  <a:ext cx="84924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1" name=""/>
          <p:cNvGrpSpPr/>
          <p:nvPr/>
        </p:nvGrpSpPr>
        <p:grpSpPr>
          <a:xfrm>
            <a:off x="2514600" y="4129200"/>
            <a:ext cx="1204920" cy="519120"/>
            <a:chOff x="2514600" y="4129200"/>
            <a:chExt cx="1204920" cy="519120"/>
          </a:xfrm>
        </p:grpSpPr>
        <p:sp>
          <p:nvSpPr>
            <p:cNvPr id="182" name=""/>
            <p:cNvSpPr/>
            <p:nvPr/>
          </p:nvSpPr>
          <p:spPr>
            <a:xfrm>
              <a:off x="2514600" y="441972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2622600" y="4129200"/>
                  <a:ext cx="109692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6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"/>
          <p:cNvGrpSpPr/>
          <p:nvPr/>
        </p:nvGrpSpPr>
        <p:grpSpPr>
          <a:xfrm>
            <a:off x="228600" y="1828800"/>
            <a:ext cx="3200400" cy="3200400"/>
            <a:chOff x="228600" y="1828800"/>
            <a:chExt cx="3200400" cy="3200400"/>
          </a:xfrm>
        </p:grpSpPr>
        <p:grpSp>
          <p:nvGrpSpPr>
            <p:cNvPr id="185" name=""/>
            <p:cNvGrpSpPr/>
            <p:nvPr/>
          </p:nvGrpSpPr>
          <p:grpSpPr>
            <a:xfrm>
              <a:off x="457200" y="2057400"/>
              <a:ext cx="2743200" cy="2743200"/>
              <a:chOff x="457200" y="2057400"/>
              <a:chExt cx="2743200" cy="27432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457200" y="2057400"/>
                <a:ext cx="2743200" cy="2743200"/>
                <a:chOff x="457200" y="2057400"/>
                <a:chExt cx="2743200" cy="2743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57200" y="48006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57200" y="44956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7200" y="41907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57200" y="38862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57200" y="35812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7200" y="32763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57200" y="29718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57200" y="26668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57200" y="23619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57200" y="20574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4572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21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0670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3716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765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814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60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909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958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004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 flipV="1">
              <a:off x="762120" y="182880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38862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1600" y="2666880"/>
              <a:ext cx="1219320" cy="1828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66680" y="4191120"/>
              <a:ext cx="1524240" cy="304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066320" y="2666880"/>
              <a:ext cx="304920" cy="15242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960480" y="4114800"/>
            <a:ext cx="973080" cy="685800"/>
            <a:chOff x="960480" y="4114800"/>
            <a:chExt cx="973080" cy="685800"/>
          </a:xfrm>
        </p:grpSpPr>
        <p:sp>
          <p:nvSpPr>
            <p:cNvPr id="213" name=""/>
            <p:cNvSpPr/>
            <p:nvPr/>
          </p:nvSpPr>
          <p:spPr>
            <a:xfrm>
              <a:off x="1020960" y="411480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960480" y="4282920"/>
                  <a:ext cx="97308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5" name=""/>
          <p:cNvGraphicFramePr/>
          <p:nvPr/>
        </p:nvGraphicFramePr>
        <p:xfrm>
          <a:off x="6573960" y="2514600"/>
          <a:ext cx="194292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960" y="2514600"/>
                    <a:ext cx="19429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854520" y="3181320"/>
          <a:ext cx="117468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4520" y="3181320"/>
                    <a:ext cx="11746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010120" y="3276720"/>
          <a:ext cx="116676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3276720"/>
                    <a:ext cx="11667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248520" y="1905120"/>
                <a:ext cx="13428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22" name=""/>
          <p:cNvGraphicFramePr/>
          <p:nvPr/>
        </p:nvGraphicFramePr>
        <p:xfrm>
          <a:off x="4648320" y="1981080"/>
          <a:ext cx="83016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1981080"/>
                    <a:ext cx="8301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368960" y="2666880"/>
          <a:ext cx="53964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68960" y="2666880"/>
                    <a:ext cx="539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751360" y="2666880"/>
          <a:ext cx="284400" cy="37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51360" y="2666880"/>
                    <a:ext cx="284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7183440" y="2666880"/>
          <a:ext cx="52056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83440" y="2666880"/>
                    <a:ext cx="5205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7848720" y="2666880"/>
          <a:ext cx="550800" cy="41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48720" y="2666880"/>
                    <a:ext cx="550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477120" y="1981080"/>
          <a:ext cx="40644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77120" y="198108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6858000" y="1981080"/>
          <a:ext cx="40644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58000" y="198108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2666880"/>
            <a:ext cx="12193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429000" y="1724040"/>
                <a:ext cx="4419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352680" y="2438280"/>
                <a:ext cx="32004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. Find the perimeter of the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295280" y="2225520"/>
            <a:ext cx="987480" cy="519120"/>
            <a:chOff x="1295280" y="2225520"/>
            <a:chExt cx="987480" cy="519120"/>
          </a:xfrm>
        </p:grpSpPr>
        <p:sp>
          <p:nvSpPr>
            <p:cNvPr id="243" name=""/>
            <p:cNvSpPr/>
            <p:nvPr/>
          </p:nvSpPr>
          <p:spPr>
            <a:xfrm>
              <a:off x="1295280" y="2590920"/>
              <a:ext cx="15264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1433520" y="2225520"/>
                  <a:ext cx="84924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5" name=""/>
          <p:cNvGrpSpPr/>
          <p:nvPr/>
        </p:nvGrpSpPr>
        <p:grpSpPr>
          <a:xfrm>
            <a:off x="2514600" y="4129200"/>
            <a:ext cx="1204920" cy="519120"/>
            <a:chOff x="2514600" y="4129200"/>
            <a:chExt cx="1204920" cy="519120"/>
          </a:xfrm>
        </p:grpSpPr>
        <p:sp>
          <p:nvSpPr>
            <p:cNvPr id="246" name=""/>
            <p:cNvSpPr/>
            <p:nvPr/>
          </p:nvSpPr>
          <p:spPr>
            <a:xfrm>
              <a:off x="2514600" y="441972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2622600" y="4129200"/>
                  <a:ext cx="109692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6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8" name=""/>
          <p:cNvGrpSpPr/>
          <p:nvPr/>
        </p:nvGrpSpPr>
        <p:grpSpPr>
          <a:xfrm>
            <a:off x="228600" y="1828800"/>
            <a:ext cx="3200400" cy="3200400"/>
            <a:chOff x="228600" y="1828800"/>
            <a:chExt cx="3200400" cy="3200400"/>
          </a:xfrm>
        </p:grpSpPr>
        <p:grpSp>
          <p:nvGrpSpPr>
            <p:cNvPr id="249" name=""/>
            <p:cNvGrpSpPr/>
            <p:nvPr/>
          </p:nvGrpSpPr>
          <p:grpSpPr>
            <a:xfrm>
              <a:off x="457200" y="2057400"/>
              <a:ext cx="2743200" cy="2743200"/>
              <a:chOff x="457200" y="2057400"/>
              <a:chExt cx="2743200" cy="274320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457200" y="2057400"/>
                <a:ext cx="2743200" cy="2743200"/>
                <a:chOff x="457200" y="2057400"/>
                <a:chExt cx="2743200" cy="27432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57200" y="48006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57200" y="44956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57200" y="41907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57200" y="38862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57200" y="35812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57200" y="32763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57200" y="29718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57200" y="26668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57200" y="23619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57200" y="20574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4572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21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0670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3716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765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814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909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958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004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flipV="1">
              <a:off x="762120" y="182880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38862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71600" y="2666880"/>
              <a:ext cx="1219320" cy="1828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66680" y="4191120"/>
              <a:ext cx="1524240" cy="304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066320" y="2666880"/>
              <a:ext cx="304920" cy="15242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960480" y="4114800"/>
            <a:ext cx="973080" cy="685800"/>
            <a:chOff x="960480" y="4114800"/>
            <a:chExt cx="973080" cy="685800"/>
          </a:xfrm>
        </p:grpSpPr>
        <p:sp>
          <p:nvSpPr>
            <p:cNvPr id="277" name=""/>
            <p:cNvSpPr/>
            <p:nvPr/>
          </p:nvSpPr>
          <p:spPr>
            <a:xfrm>
              <a:off x="1020960" y="411480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960480" y="4282920"/>
                  <a:ext cx="97308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79" name=""/>
          <p:cNvGraphicFramePr/>
          <p:nvPr/>
        </p:nvGraphicFramePr>
        <p:xfrm>
          <a:off x="6573960" y="2514600"/>
          <a:ext cx="194292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960" y="2514600"/>
                    <a:ext cx="19429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854520" y="3181320"/>
          <a:ext cx="117468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4520" y="3181320"/>
                    <a:ext cx="11746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5010120" y="3276720"/>
          <a:ext cx="116676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3276720"/>
                    <a:ext cx="11667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248520" y="1905120"/>
                <a:ext cx="13428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86" name=""/>
          <p:cNvGraphicFramePr/>
          <p:nvPr/>
        </p:nvGraphicFramePr>
        <p:xfrm>
          <a:off x="4648320" y="1981080"/>
          <a:ext cx="83016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1981080"/>
                    <a:ext cx="8301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368960" y="2666880"/>
          <a:ext cx="53964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68960" y="2666880"/>
                    <a:ext cx="539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751360" y="2666880"/>
          <a:ext cx="284400" cy="37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51360" y="2666880"/>
                    <a:ext cx="284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183440" y="2666880"/>
          <a:ext cx="52056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83440" y="2666880"/>
                    <a:ext cx="5205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7848720" y="2666880"/>
          <a:ext cx="550800" cy="41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48720" y="2666880"/>
                    <a:ext cx="550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6477120" y="1981080"/>
          <a:ext cx="40644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77120" y="198108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6858000" y="1981080"/>
          <a:ext cx="40644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58000" y="198108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080720" y="2668680"/>
            <a:ext cx="290520" cy="1523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429000" y="1724040"/>
                <a:ext cx="4419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52680" y="2438280"/>
                <a:ext cx="32004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6757920" y="4514760"/>
          <a:ext cx="1943280" cy="585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57920" y="4514760"/>
                    <a:ext cx="1943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486400" y="5105520"/>
          <a:ext cx="1174680" cy="585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86400" y="5105520"/>
                    <a:ext cx="11746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6684840" y="5200560"/>
          <a:ext cx="1079640" cy="515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684840" y="5200560"/>
                    <a:ext cx="10796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448320" y="3917880"/>
                <a:ext cx="1278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11" name=""/>
          <p:cNvGraphicFramePr/>
          <p:nvPr/>
        </p:nvGraphicFramePr>
        <p:xfrm>
          <a:off x="4849920" y="3981600"/>
          <a:ext cx="795240" cy="379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849920" y="3981600"/>
                    <a:ext cx="7952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695840" y="4667400"/>
          <a:ext cx="252360" cy="377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95840" y="4667400"/>
                    <a:ext cx="2523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5935680" y="4667400"/>
          <a:ext cx="284040" cy="379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935680" y="4667400"/>
                    <a:ext cx="2840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491240" y="4667400"/>
          <a:ext cx="273240" cy="412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491240" y="4667400"/>
                    <a:ext cx="2732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8047080" y="4667400"/>
          <a:ext cx="520560" cy="4125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047080" y="4667400"/>
                    <a:ext cx="5205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6705720" y="3962520"/>
          <a:ext cx="406440" cy="406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705720" y="396252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7042320" y="3981600"/>
          <a:ext cx="406080" cy="406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042320" y="3981600"/>
                    <a:ext cx="40608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581280" y="3733920"/>
                <a:ext cx="44197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533760" y="4419720"/>
                <a:ext cx="32004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. Find the perimeter of the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295280" y="2225520"/>
            <a:ext cx="987480" cy="519120"/>
            <a:chOff x="1295280" y="2225520"/>
            <a:chExt cx="987480" cy="519120"/>
          </a:xfrm>
        </p:grpSpPr>
        <p:sp>
          <p:nvSpPr>
            <p:cNvPr id="330" name=""/>
            <p:cNvSpPr/>
            <p:nvPr/>
          </p:nvSpPr>
          <p:spPr>
            <a:xfrm>
              <a:off x="1295280" y="2590920"/>
              <a:ext cx="15264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1433520" y="2225520"/>
                  <a:ext cx="84924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2514600" y="4129200"/>
            <a:ext cx="1204920" cy="519120"/>
            <a:chOff x="2514600" y="4129200"/>
            <a:chExt cx="1204920" cy="519120"/>
          </a:xfrm>
        </p:grpSpPr>
        <p:sp>
          <p:nvSpPr>
            <p:cNvPr id="333" name=""/>
            <p:cNvSpPr/>
            <p:nvPr/>
          </p:nvSpPr>
          <p:spPr>
            <a:xfrm>
              <a:off x="2514600" y="441972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2622600" y="4129200"/>
                  <a:ext cx="109692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6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5" name=""/>
          <p:cNvGrpSpPr/>
          <p:nvPr/>
        </p:nvGrpSpPr>
        <p:grpSpPr>
          <a:xfrm>
            <a:off x="228600" y="1828800"/>
            <a:ext cx="3200400" cy="3200400"/>
            <a:chOff x="228600" y="1828800"/>
            <a:chExt cx="3200400" cy="3200400"/>
          </a:xfrm>
        </p:grpSpPr>
        <p:grpSp>
          <p:nvGrpSpPr>
            <p:cNvPr id="336" name=""/>
            <p:cNvGrpSpPr/>
            <p:nvPr/>
          </p:nvGrpSpPr>
          <p:grpSpPr>
            <a:xfrm>
              <a:off x="457200" y="2057400"/>
              <a:ext cx="2743200" cy="2743200"/>
              <a:chOff x="457200" y="2057400"/>
              <a:chExt cx="2743200" cy="274320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57200" y="2057400"/>
                <a:ext cx="2743200" cy="2743200"/>
                <a:chOff x="457200" y="2057400"/>
                <a:chExt cx="2743200" cy="27432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7200" y="48006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7200" y="44956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57200" y="41907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57200" y="38862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57200" y="35812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57200" y="32763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57200" y="29718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57200" y="26668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57200" y="23619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57200" y="20574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4572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621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0670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716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765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814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59092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9584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00400" y="20574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 flipV="1">
              <a:off x="762120" y="182880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" y="38862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71600" y="2666880"/>
              <a:ext cx="1219320" cy="1828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66680" y="4191120"/>
              <a:ext cx="1524240" cy="3045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066320" y="2666880"/>
              <a:ext cx="304920" cy="15242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60480" y="4114800"/>
            <a:ext cx="973080" cy="685800"/>
            <a:chOff x="960480" y="4114800"/>
            <a:chExt cx="973080" cy="685800"/>
          </a:xfrm>
        </p:grpSpPr>
        <p:sp>
          <p:nvSpPr>
            <p:cNvPr id="364" name=""/>
            <p:cNvSpPr/>
            <p:nvPr/>
          </p:nvSpPr>
          <p:spPr>
            <a:xfrm>
              <a:off x="1020960" y="411480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960480" y="4282920"/>
                  <a:ext cx="97308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66" name=""/>
          <p:cNvGraphicFramePr/>
          <p:nvPr/>
        </p:nvGraphicFramePr>
        <p:xfrm>
          <a:off x="6573960" y="2514600"/>
          <a:ext cx="194292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960" y="2514600"/>
                    <a:ext cx="19429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3854520" y="3181320"/>
          <a:ext cx="117468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4520" y="3181320"/>
                    <a:ext cx="11746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5010120" y="3276720"/>
          <a:ext cx="116676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3276720"/>
                    <a:ext cx="11667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6248520" y="1905120"/>
                <a:ext cx="13428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73" name=""/>
          <p:cNvGraphicFramePr/>
          <p:nvPr/>
        </p:nvGraphicFramePr>
        <p:xfrm>
          <a:off x="4648320" y="1981080"/>
          <a:ext cx="83016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1981080"/>
                    <a:ext cx="8301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4368960" y="2666880"/>
          <a:ext cx="53964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68960" y="2666880"/>
                    <a:ext cx="539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5751360" y="2666880"/>
          <a:ext cx="284400" cy="37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51360" y="2666880"/>
                    <a:ext cx="284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183440" y="2666880"/>
          <a:ext cx="520560" cy="41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83440" y="2666880"/>
                    <a:ext cx="5205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7848720" y="2666880"/>
          <a:ext cx="550800" cy="412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48720" y="2666880"/>
                    <a:ext cx="550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6477120" y="1981080"/>
          <a:ext cx="40644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77120" y="198108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6858000" y="1981080"/>
          <a:ext cx="40644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58000" y="198108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1053720" y="4185720"/>
            <a:ext cx="1538280" cy="319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429000" y="1724040"/>
                <a:ext cx="4419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352680" y="2438280"/>
                <a:ext cx="32004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391" name=""/>
          <p:cNvGraphicFramePr/>
          <p:nvPr/>
        </p:nvGraphicFramePr>
        <p:xfrm>
          <a:off x="6757920" y="4514760"/>
          <a:ext cx="1943280" cy="585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57920" y="4514760"/>
                    <a:ext cx="1943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5486400" y="5105520"/>
          <a:ext cx="1174680" cy="585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86400" y="5105520"/>
                    <a:ext cx="11746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6684840" y="5200560"/>
          <a:ext cx="1079640" cy="515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684840" y="5200560"/>
                    <a:ext cx="10796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6448320" y="3917880"/>
                <a:ext cx="1278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98" name=""/>
          <p:cNvGraphicFramePr/>
          <p:nvPr/>
        </p:nvGraphicFramePr>
        <p:xfrm>
          <a:off x="4849920" y="3981600"/>
          <a:ext cx="795240" cy="379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849920" y="3981600"/>
                    <a:ext cx="7952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4695840" y="4667400"/>
          <a:ext cx="252360" cy="377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95840" y="4667400"/>
                    <a:ext cx="2523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935680" y="4667400"/>
          <a:ext cx="284040" cy="379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935680" y="4667400"/>
                    <a:ext cx="2840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7491240" y="4667400"/>
          <a:ext cx="273240" cy="412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491240" y="4667400"/>
                    <a:ext cx="2732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8047080" y="4667400"/>
          <a:ext cx="520560" cy="4125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047080" y="4667400"/>
                    <a:ext cx="5205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6705720" y="3962520"/>
          <a:ext cx="406440" cy="406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705720" y="396252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7042320" y="3981600"/>
          <a:ext cx="406080" cy="406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042320" y="3981600"/>
                    <a:ext cx="40608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581280" y="3733920"/>
                <a:ext cx="44197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533760" y="4419720"/>
                <a:ext cx="32004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414" name=""/>
          <p:cNvGraphicFramePr/>
          <p:nvPr/>
        </p:nvGraphicFramePr>
        <p:xfrm>
          <a:off x="3144960" y="5867280"/>
          <a:ext cx="1942920" cy="586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144960" y="5867280"/>
                    <a:ext cx="194292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4903920" y="5848200"/>
          <a:ext cx="1209600" cy="5860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903920" y="5848200"/>
                    <a:ext cx="12096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6095880" y="5943600"/>
          <a:ext cx="1127160" cy="5158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095880" y="5943600"/>
                    <a:ext cx="1127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378160" y="5259240"/>
                <a:ext cx="15336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21" name=""/>
          <p:cNvGraphicFramePr/>
          <p:nvPr/>
        </p:nvGraphicFramePr>
        <p:xfrm>
          <a:off x="1082520" y="5334120"/>
          <a:ext cx="763920" cy="3794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1082520" y="5334120"/>
                    <a:ext cx="7639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955800" y="6019920"/>
          <a:ext cx="507960" cy="3776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955800" y="6019920"/>
                    <a:ext cx="5079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2322360" y="6019920"/>
          <a:ext cx="284400" cy="3794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2322360" y="6019920"/>
                    <a:ext cx="284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3754440" y="6019920"/>
          <a:ext cx="520560" cy="41256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3754440" y="6019920"/>
                    <a:ext cx="5205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4522680" y="6019920"/>
          <a:ext cx="343080" cy="41256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522680" y="6019920"/>
                    <a:ext cx="343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2863800" y="5315040"/>
          <a:ext cx="406440" cy="406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2863800" y="531504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200400" y="5334120"/>
          <a:ext cx="406440" cy="40644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3200400" y="533412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865600" y="6342120"/>
          <a:ext cx="730080" cy="5158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865600" y="6342120"/>
                    <a:ext cx="7300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3505320" y="6342120"/>
          <a:ext cx="954000" cy="5158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505320" y="6342120"/>
                    <a:ext cx="9540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4419720" y="6342120"/>
          <a:ext cx="992160" cy="5158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4419720" y="6342120"/>
                    <a:ext cx="992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5334120" y="6342120"/>
          <a:ext cx="1382760" cy="51588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5334120" y="6342120"/>
                    <a:ext cx="13827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0" y="5097600"/>
                <a:ext cx="4143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0" y="5813280"/>
                <a:ext cx="3073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44400" y="2867040"/>
                <a:ext cx="37972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dpoint between the two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114880" y="2482920"/>
                <a:ext cx="37972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49" name=""/>
          <p:cNvGraphicFramePr/>
          <p:nvPr/>
        </p:nvGraphicFramePr>
        <p:xfrm>
          <a:off x="1089000" y="3048120"/>
          <a:ext cx="343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3048120"/>
                    <a:ext cx="343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295280" y="4572000"/>
          <a:ext cx="38736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5720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0" y="16765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dpoint is like finding the aver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882800" y="3048120"/>
          <a:ext cx="43020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82800" y="3048120"/>
                    <a:ext cx="430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763720" y="3048120"/>
          <a:ext cx="38736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63720" y="304812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3581280" y="3048120"/>
          <a:ext cx="38736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304812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41240" y="4403880"/>
                <a:ext cx="24861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61" name=""/>
          <p:cNvGraphicFramePr/>
          <p:nvPr/>
        </p:nvGraphicFramePr>
        <p:xfrm>
          <a:off x="2286000" y="4572000"/>
          <a:ext cx="387360" cy="51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45720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484440" y="4346640"/>
                <a:ext cx="221004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706320" y="2176560"/>
                <a:ext cx="29196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1022400" y="2879640"/>
                <a:ext cx="353520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dpoint between the two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293840" y="3025800"/>
          <a:ext cx="3873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30258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1262160" y="4564080"/>
          <a:ext cx="43020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2160" y="4564080"/>
                    <a:ext cx="430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0" y="16765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dpoint is like finding the aver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820880" y="2884320"/>
                <a:ext cx="10843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75" name=""/>
          <p:cNvGraphicFramePr/>
          <p:nvPr/>
        </p:nvGraphicFramePr>
        <p:xfrm>
          <a:off x="2933640" y="3040200"/>
          <a:ext cx="34308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33640" y="3040200"/>
                    <a:ext cx="343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416400" y="2909880"/>
                <a:ext cx="9982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78" name=""/>
          <p:cNvGraphicFramePr/>
          <p:nvPr/>
        </p:nvGraphicFramePr>
        <p:xfrm>
          <a:off x="2273400" y="4564080"/>
          <a:ext cx="38736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73400" y="456408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1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519120" y="2176560"/>
                <a:ext cx="36162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5114880" y="2482920"/>
                <a:ext cx="379728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41240" y="4403880"/>
                <a:ext cx="24861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378240" y="4705200"/>
                <a:ext cx="17208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 SKELTON</cp:lastModifiedBy>
  <dcterms:modified xsi:type="dcterms:W3CDTF">2004-04-03T14:49:33Z</dcterms:modified>
  <cp:revision>88</cp:revision>
  <dc:subject/>
  <dc:title>No Slide Title</dc:title>
</cp:coreProperties>
</file>